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whoosh.wav" ContentType="audio/x-wav"/>
  <Override PartName="/ppt/media/image5.png" ContentType="image/png"/>
  <Override PartName="/ppt/media/image6.png" ContentType="image/png"/>
  <Override PartName="/ppt/media/delcious2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0ED4-9C44-404C-8A81-288C66D26195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as opposed to fake number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Kinds of Re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Two Kinds of Re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3333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r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quare roots of non-perfect “square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r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subsets of rational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integ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are the whole numbers and their oppo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integer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9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What are integers?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1902-3504-40C6-B1DF-994917F97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13CC-4A88-410B-9B0C-3FC9766B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78E-A4B8-489C-91DC-FF31A6F80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77E0-BD03-448A-A03B-35A22C25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A7F6-960D-4A9B-89F2-48FAE0B2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5CE2-9994-43F1-8DA8-240C49D18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6794-EC30-4154-99BF-858E118A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7E1AD-2A58-4496-84A6-952EB694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0359-5143-47F5-8D31-C906D61A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CA6DD-1CBF-4C4B-B1CC-B457D722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4703-CE72-4E8A-AFA9-1A091BD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AC8D-978E-40A2-BE84-1CB60638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E730-BC49-4936-BDF9-068BE325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AC3A-DB34-4CB7-83D1-91E069B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AE1D-94C1-459B-9AA0-B378570B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D6E5-1BF3-4430-B5D5-754A2398D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603D-F993-4B52-912D-72FDAB92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0931-853A-4D72-A69D-2DD9A9A12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E81-CE64-460D-A0CD-93BDB93C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381-7680-435F-9D60-C1EBB7D1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408-6D68-440F-9B18-9C17230E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A870-8390-4298-AFF6-3F40E37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5CD-61FF-4FD0-BE50-29235777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1BCB-6397-450A-9772-D56ADB50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53C1-B4AD-49DA-95C3-ED3953EBEA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6699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99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9F0B-F89C-4E82-882F-C6B3F7CE3E64}" type="slidenum">
              <a:rPr b="0" lang="en-US" sz="1400" spc="-1" strike="noStrike">
                <a:solidFill>
                  <a:srgbClr val="6699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delcious2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36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99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Integers are rational numbers because they can be written as fraction with 1 as the denominator.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Comic Sans MS"/>
              </a:rPr>
              <a:t>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625760" y="5257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(as opposed to fake numbers?)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3" name="Picture 4" descr="8"/>
          <p:cNvPicPr/>
          <p:nvPr/>
        </p:nvPicPr>
        <p:blipFill>
          <a:blip r:embed="rId1"/>
          <a:stretch/>
        </p:blipFill>
        <p:spPr>
          <a:xfrm>
            <a:off x="3809880" y="297180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Two Kinds of Re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2640" y="2743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07" name="Picture 4" descr="numbers-cup"/>
          <p:cNvPicPr/>
          <p:nvPr/>
        </p:nvPicPr>
        <p:blipFill>
          <a:blip r:embed="rId1"/>
          <a:stretch/>
        </p:blipFill>
        <p:spPr>
          <a:xfrm>
            <a:off x="6477120" y="1981080"/>
            <a:ext cx="1985760" cy="35053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ff"/>
                </a:solidFill>
                <a:latin typeface="Comic Sans MS"/>
              </a:rPr>
              <a:t>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is a real number that can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 rational number written in decimal form is terminating or 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/2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3.56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8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1.3333…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15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9900"/>
                </a:solidFill>
                <a:latin typeface="Comic Sans MS"/>
              </a:rPr>
              <a:t>- 3/4</a:t>
            </a: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An irrational number is a number that cannot be written as a ratio of two integers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9900"/>
                </a:solidFill>
                <a:latin typeface="Comic Sans MS"/>
              </a:rPr>
              <a:t>Irrational numbers written as decimals are non-terminating and non-repeating.</a:t>
            </a:r>
            <a:endParaRPr b="0" lang="en-US" sz="40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2" dur="1" fill="hold"/>
                                  <p:tgtEl>
                                    <p:spTgt spid="1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bbd8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Examples of Irrational Numb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Square roots of non-perfect “squares”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Pi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2" name="Picture 11" descr="sq-root"/>
          <p:cNvPicPr/>
          <p:nvPr/>
        </p:nvPicPr>
        <p:blipFill>
          <a:blip r:embed="rId1"/>
          <a:stretch/>
        </p:blipFill>
        <p:spPr>
          <a:xfrm>
            <a:off x="1905120" y="4038480"/>
            <a:ext cx="479160" cy="708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3"/>
          <p:cNvSpPr/>
          <p:nvPr/>
        </p:nvSpPr>
        <p:spPr>
          <a:xfrm>
            <a:off x="2275200" y="40957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00"/>
                </a:solidFill>
                <a:latin typeface="Comic Sans MS"/>
              </a:rPr>
              <a:t>17</a:t>
            </a:r>
            <a:endParaRPr b="0" lang="en-US" sz="2400" spc="-1" strike="noStrike">
              <a:solidFill>
                <a:srgbClr val="669900"/>
              </a:solidFill>
              <a:latin typeface="Comic Sans MS"/>
            </a:endParaRPr>
          </a:p>
        </p:txBody>
      </p:sp>
      <p:pic>
        <p:nvPicPr>
          <p:cNvPr id="124" name="Picture 24" descr="pieslice"/>
          <p:cNvPicPr/>
          <p:nvPr/>
        </p:nvPicPr>
        <p:blipFill>
          <a:blip r:embed="rId2"/>
          <a:stretch/>
        </p:blipFill>
        <p:spPr>
          <a:xfrm>
            <a:off x="6095880" y="2590920"/>
            <a:ext cx="1714680" cy="17143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3" name="chimes.wav"/>
      </p:stSnd>
    </p:sndAc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elciou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Integers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Comic Sans MS"/>
              </a:rPr>
              <a:t>One of the subsets of rational numbers</a:t>
            </a:r>
            <a:endParaRPr b="0" lang="en-US" sz="32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What are integers?</a:t>
            </a:r>
            <a:endParaRPr b="0" lang="en-US" sz="4400" spc="-1" strike="noStrike">
              <a:solidFill>
                <a:srgbClr val="6600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Integers are the whole numbers and their opposites.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66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Examples of integers are 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12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186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00"/>
                </a:solidFill>
                <a:latin typeface="Comic Sans MS"/>
              </a:rPr>
              <a:t>-934</a:t>
            </a:r>
            <a:endParaRPr b="0" lang="en-US" sz="2800" spc="-1" strike="noStrike">
              <a:solidFill>
                <a:srgbClr val="6699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5276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Comic Sans MS"/>
              </a:rPr>
              <a:t>sliderbase.com</a:t>
            </a:r>
            <a:endParaRPr b="0" lang="en-US" sz="1400" spc="-1" strike="noStrike">
              <a:solidFill>
                <a:srgbClr val="669900"/>
              </a:solidFill>
              <a:latin typeface="Comic Sans MS"/>
            </a:endParaRPr>
          </a:p>
        </p:txBody>
      </p:sp>
    </p:spTree>
  </p:cSld>
  <p:transition spd="med">
    <p:cover dir="l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14:58:46Z</dcterms:created>
  <dc:creator>Jefferson County Schools </dc:creator>
  <dc:description/>
  <dc:language>en-US</dc:language>
  <cp:lastModifiedBy>LEGION</cp:lastModifiedBy>
  <dcterms:modified xsi:type="dcterms:W3CDTF">2017-07-06T06:39:00Z</dcterms:modified>
  <cp:revision>4</cp:revision>
  <dc:subject/>
  <dc:title>PowerPoint Presentation</dc:title>
</cp:coreProperties>
</file>